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431-3B2C-4DD6-B629-9ACDAEB9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BCD-F6D3-4F5E-B85A-7BE90C29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14A-BA51-4AD0-8D73-B0D3FF26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6E7-3AD7-48D7-A3CF-674A6FB3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85C-47CA-4442-80C6-DFE576CF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07C-6B54-42EC-8A5D-D5C882BC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ADA-BD9C-4AF5-92A2-C23C830D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3A0-1C4D-4023-8BC7-0F3F9EC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AFE-3422-4AA5-A9F8-DB890D45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405-10C2-4DE3-A78B-9B814C4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CDF-1DCF-4DEE-9CEF-5DC2659A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E85-993D-4107-8C81-9F52AFE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EF96-1F64-40E1-8BF9-5211F8C7A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0.png"/><Relationship Id="rId7" Type="http://schemas.openxmlformats.org/officeDocument/2006/relationships/image" Target="../media/image7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origins/causes.htm" TargetMode="External"/><Relationship Id="rId3" Type="http://schemas.openxmlformats.org/officeDocument/2006/relationships/hyperlink" Target="http://www.historyonthenet.com/WW1/causes.htm#Militarism" TargetMode="External"/><Relationship Id="rId4" Type="http://schemas.openxmlformats.org/officeDocument/2006/relationships/hyperlink" Target="http://www.historyonthenet.com/WW1/causes.htm#Militarism" TargetMode="External"/><Relationship Id="rId5" Type="http://schemas.openxmlformats.org/officeDocument/2006/relationships/hyperlink" Target="http://www.historyonthenet.com/WW1/causes.htm#Alliances" TargetMode="External"/><Relationship Id="rId6" Type="http://schemas.openxmlformats.org/officeDocument/2006/relationships/hyperlink" Target="http://www.historyonthenet.com/WW1/causes.htm#Nationalism" TargetMode="External"/><Relationship Id="rId7" Type="http://schemas.openxmlformats.org/officeDocument/2006/relationships/hyperlink" Target="http://www.historyonthenet.com/WW1/causes.htm#Imperialism" TargetMode="External"/><Relationship Id="rId8" Type="http://schemas.openxmlformats.org/officeDocument/2006/relationships/hyperlink" Target="http://www.historyonthenet.com/WW1/assassination.htm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3.xml"/><Relationship Id="rId6" Type="http://schemas.openxmlformats.org/officeDocument/2006/relationships/slide" Target="slide6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7.xml"/><Relationship Id="rId11" Type="http://schemas.openxmlformats.org/officeDocument/2006/relationships/slide" Target="slide5.xm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tt.edu/~dash/northlinks.html#austria" TargetMode="External"/><Relationship Id="rId3" Type="http://schemas.openxmlformats.org/officeDocument/2006/relationships/hyperlink" Target="http://www.pitt.edu/~dash/northlinks.html#belgium" TargetMode="External"/><Relationship Id="rId4" Type="http://schemas.openxmlformats.org/officeDocument/2006/relationships/hyperlink" Target="http://www.pitt.edu/~dash/northlinks.html#denmark" TargetMode="External"/><Relationship Id="rId5" Type="http://schemas.openxmlformats.org/officeDocument/2006/relationships/hyperlink" Target="http://www.pitt.edu/~dash/northlinks.html#iceland" TargetMode="External"/><Relationship Id="rId6" Type="http://schemas.openxmlformats.org/officeDocument/2006/relationships/hyperlink" Target="http://www.pitt.edu/~dash/northlinks.html#germany" TargetMode="External"/><Relationship Id="rId7" Type="http://schemas.openxmlformats.org/officeDocument/2006/relationships/hyperlink" Target="http://www.pitt.edu/~dash/northlinks.html#liechtenstein" TargetMode="External"/><Relationship Id="rId8" Type="http://schemas.openxmlformats.org/officeDocument/2006/relationships/hyperlink" Target="http://www.pitt.edu/~dash/northlinks.html#luxembourg" TargetMode="External"/><Relationship Id="rId9" Type="http://schemas.openxmlformats.org/officeDocument/2006/relationships/hyperlink" Target="http://www.pitt.edu/~dash/northlinks.html#netherlands" TargetMode="External"/><Relationship Id="rId10" Type="http://schemas.openxmlformats.org/officeDocument/2006/relationships/hyperlink" Target="http://www.pitt.edu/~dash/northlinks.html#norway" TargetMode="External"/><Relationship Id="rId11" Type="http://schemas.openxmlformats.org/officeDocument/2006/relationships/hyperlink" Target="http://www.pitt.edu/~dash/northlinks.html#sweden" TargetMode="External"/><Relationship Id="rId12" Type="http://schemas.openxmlformats.org/officeDocument/2006/relationships/hyperlink" Target="http://www.pitt.edu/~dash/northlinks.html#switzerland" TargetMode="External"/><Relationship Id="rId13" Type="http://schemas.openxmlformats.org/officeDocument/2006/relationships/hyperlink" Target="http://www.pitt.edu/~dash/northlinks.html#unitedkingdom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20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algal.com/graphics/PUR/Eurethnic.jpg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vtc.gov/lotw/months/december/images/SlavicLanguagesMap.jpg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5438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:  What were the causes of the Great Wa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6933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 No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py your unit vocab in your Glo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itar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belief of a government that a country should maintain a strong military and be prepared to use it aggress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s an agreement between two or more parties in order to advance common goals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ench warfare-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orm of warfare where both sides have stationary positions dug into the groun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paga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orm of advertising that is meant to stress a specific point of vie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67080" y="761760"/>
            <a:ext cx="464832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The</a:t>
            </a:r>
            <a:br>
              <a:rPr sz="9800"/>
            </a:br>
            <a:br>
              <a:rPr sz="9800"/>
            </a:br>
            <a:r>
              <a:rPr b="0" lang="en-US" sz="9800" spc="-1" strike="noStrike">
                <a:solidFill>
                  <a:srgbClr val="333399"/>
                </a:solidFill>
                <a:latin typeface="Lombardic Narrow"/>
              </a:rPr>
              <a:t>“Spark”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743200" y="914400"/>
            <a:ext cx="5484960" cy="488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7920" y="5911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rchduke Franz Ferdinand and Duchess Sophie at Sarajevo, Bosnia, on June 28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19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20472" r="0" b="24662"/>
          <a:stretch/>
        </p:blipFill>
        <p:spPr>
          <a:xfrm>
            <a:off x="1447920" y="1066680"/>
            <a:ext cx="7696080" cy="5105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63370" t="1639" r="4952" b="80350"/>
          <a:stretch/>
        </p:blipFill>
        <p:spPr>
          <a:xfrm>
            <a:off x="1447920" y="518148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11240" t="0" r="17111" b="0"/>
          <a:stretch/>
        </p:blipFill>
        <p:spPr>
          <a:xfrm>
            <a:off x="4648320" y="2057400"/>
            <a:ext cx="612720" cy="91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2819520"/>
            <a:ext cx="990720" cy="2666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8844E-006 L 0.10816 0.42151 E">
                                      <p:cBhvr>
                                        <p:cTn id="14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505320" y="1143000"/>
            <a:ext cx="5638680" cy="538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990720"/>
            <a:ext cx="2133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strian Archduke Franz Ferdinand was killed in Bosnia by a Serbian nationalist who believed that Bosnia should belong to Serb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4385" t="4107" r="2444" b="10959"/>
          <a:stretch/>
        </p:blipFill>
        <p:spPr>
          <a:xfrm>
            <a:off x="1447920" y="1584360"/>
            <a:ext cx="4114800" cy="329256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19920" y="3809880"/>
            <a:ext cx="3124080" cy="3048120"/>
          </a:xfrm>
          <a:prstGeom prst="rect">
            <a:avLst/>
          </a:prstGeom>
          <a:ln w="9360">
            <a:solidFill>
              <a:srgbClr val="6644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876920" y="2895480"/>
            <a:ext cx="1904760" cy="1905120"/>
          </a:xfrm>
          <a:prstGeom prst="line">
            <a:avLst/>
          </a:prstGeom>
          <a:ln cap="sq" w="57240">
            <a:solidFill>
              <a:srgbClr val="e61f0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6633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663300"/>
                </a:solidFill>
                <a:latin typeface="Pooh"/>
              </a:rPr>
              <a:t>ssass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16002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avrilo Princip after his assassination of Austrian Archduke Franz Ferdin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1294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 blamed Serbia for Ferdinand’s death and declared war on Serb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2362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819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pledged their support for Austria -Hunga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German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267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 pledged their support for Serbi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example of Pan-Slavic nation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58672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79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aiandra GD"/>
              </a:rPr>
              <a:t>The Point of No Retu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The Assassination of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1371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Rus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0666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2057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9000" y="251388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 pledges their support for Russi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52600" y="365688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declares war on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52960" y="4723560"/>
            <a:ext cx="72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invades Belgium on the way to Fr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2004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4267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4100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33640" y="382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9115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 supports Belgium and declares war on German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719000" cy="1145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52480" y="1066680"/>
            <a:ext cx="1746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rcRect l="1617" t="0" r="1617" b="0"/>
          <a:stretch/>
        </p:blipFill>
        <p:spPr>
          <a:xfrm>
            <a:off x="6705720" y="2590920"/>
            <a:ext cx="166824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705720" y="914400"/>
            <a:ext cx="1747800" cy="1143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86200" y="1676520"/>
            <a:ext cx="2438280" cy="289548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orld Wa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Allied Powers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Central Powers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705720" y="4114800"/>
            <a:ext cx="172548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715000"/>
            <a:ext cx="174780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002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21337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73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257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2133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man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3124080"/>
            <a:ext cx="30492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1523880"/>
            <a:ext cx="0" cy="4800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71840" y="312408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12952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920" y="0"/>
            <a:ext cx="6172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Pooh"/>
                <a:hlinkClick r:id="rId2"/>
              </a:rPr>
              <a:t>Causes of World War 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ooh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736560"/>
            <a:ext cx="6094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Poo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Pooh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Pooh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Pooh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8380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litaris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– policy of building up strong military forces to prepare for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05704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llianc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between nations to aid and protect one an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27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ational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ride in or devotion to one’s cou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495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mperialis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when one country takes over another country economically and pol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5638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ssass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murder of Austrian Archduke Franz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1" lang="en-US" sz="3200" spc="-1" strike="noStrike">
                <a:solidFill>
                  <a:srgbClr val="006600"/>
                </a:solidFill>
                <a:latin typeface="Pooh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Pooh"/>
              </a:rPr>
              <a:t>N</a:t>
            </a:r>
            <a:r>
              <a:rPr b="1" lang="en-US" sz="32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1" lang="en-US" sz="3200" spc="-1" strike="noStrike">
                <a:solidFill>
                  <a:srgbClr val="663300"/>
                </a:solidFill>
                <a:latin typeface="Pooh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47920" y="3843360"/>
          <a:ext cx="7695720" cy="3014640"/>
        </p:xfrm>
        <a:graphic>
          <a:graphicData uri="http://schemas.openxmlformats.org/drawingml/2006/table">
            <a:tbl>
              <a:tblPr/>
              <a:tblGrid>
                <a:gridCol w="2308680"/>
                <a:gridCol w="5387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</a:rPr>
                        <a:t>1910-1914 Increase in Defense Expendit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cc33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3300"/>
                </a:solidFill>
                <a:latin typeface="Pooh"/>
              </a:rPr>
              <a:t>M</a:t>
            </a:r>
            <a:r>
              <a:rPr b="0" lang="en-US" sz="3600" spc="-1" strike="noStrike">
                <a:solidFill>
                  <a:srgbClr val="cc3300"/>
                </a:solidFill>
                <a:latin typeface="Pooh"/>
              </a:rPr>
              <a:t>ilitar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2590920"/>
          <a:ext cx="7619760" cy="110016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  <a:gridCol w="1270080"/>
                <a:gridCol w="1270080"/>
                <a:gridCol w="1269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8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61f0a"/>
                          </a:solidFill>
                          <a:latin typeface="Comic Sans MS"/>
                          <a:ea typeface="Arial"/>
                        </a:rPr>
                        <a:t>19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447920" y="76212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1b53"/>
                </a:solidFill>
                <a:latin typeface="Comic Sans MS"/>
              </a:rPr>
              <a:t>During the time the major European nations were building up their military strength and power.  This competition could be seen as a maj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76520" y="53341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676520" y="16765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rcRect l="1617" t="0" r="1617" b="0"/>
          <a:stretch/>
        </p:blipFill>
        <p:spPr>
          <a:xfrm>
            <a:off x="6705720" y="350532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6705720" y="17524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rcRect l="2756" t="4132" r="2756" b="5313"/>
          <a:stretch/>
        </p:blipFill>
        <p:spPr>
          <a:xfrm>
            <a:off x="6705720" y="533412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62520" y="4191120"/>
            <a:ext cx="304560" cy="0"/>
          </a:xfrm>
          <a:prstGeom prst="line">
            <a:avLst/>
          </a:prstGeom>
          <a:ln cap="sq" w="38160">
            <a:solidFill>
              <a:srgbClr val="e61f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286000"/>
            <a:ext cx="0" cy="3657600"/>
          </a:xfrm>
          <a:prstGeom prst="line">
            <a:avLst/>
          </a:prstGeom>
          <a:ln cap="sq"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95520" y="4191120"/>
            <a:ext cx="304920" cy="0"/>
          </a:xfrm>
          <a:prstGeom prst="line">
            <a:avLst/>
          </a:prstGeom>
          <a:ln cap="sq"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124080"/>
            <a:ext cx="1600200" cy="1981440"/>
          </a:xfrm>
          <a:prstGeom prst="irregularSeal1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cap="sq" w="12600">
            <a:solidFill>
              <a:srgbClr val="000000"/>
            </a:solidFill>
            <a:miter/>
          </a:ln>
          <a:effectLst>
            <a:outerShdw dist="89808" dir="4916091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76212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61f0a"/>
                </a:solidFill>
                <a:uFillTx/>
                <a:latin typeface="Comic Sans MS"/>
              </a:rPr>
              <a:t>Triple Entente</a:t>
            </a:r>
            <a:r>
              <a:rPr b="0" lang="en-US" sz="2800" spc="-1" strike="noStrike">
                <a:solidFill>
                  <a:srgbClr val="e61f0a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76212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Triple Alliance</a:t>
            </a:r>
            <a:r>
              <a:rPr b="0" lang="en-US" sz="2800" spc="-1" strike="noStrike">
                <a:solidFill>
                  <a:srgbClr val="99cc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2209680"/>
            <a:ext cx="0" cy="365760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Pooh"/>
              </a:rPr>
              <a:t>A</a:t>
            </a:r>
            <a:r>
              <a:rPr b="0" lang="en-US" sz="3600" spc="-1" strike="noStrike">
                <a:solidFill>
                  <a:srgbClr val="009900"/>
                </a:solidFill>
                <a:latin typeface="Pooh"/>
              </a:rPr>
              <a:t>ll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295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048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876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312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4876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7010640" cy="478476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1420920" y="-76320"/>
            <a:ext cx="1474560" cy="1967040"/>
          </a:xfrm>
          <a:custGeom>
            <a:avLst/>
            <a:gdLst>
              <a:gd name="textAreaLeft" fmla="*/ 95400 w 1474560"/>
              <a:gd name="textAreaRight" fmla="*/ 1379160 w 1474560"/>
              <a:gd name="textAreaTop" fmla="*/ 95400 h 1967040"/>
              <a:gd name="textAreaBottom" fmla="*/ 1871640 h 196704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6078600" y="561960"/>
            <a:ext cx="1984320" cy="2776680"/>
          </a:xfrm>
          <a:custGeom>
            <a:avLst/>
            <a:gdLst>
              <a:gd name="textAreaLeft" fmla="*/ 128520 w 1984320"/>
              <a:gd name="textAreaRight" fmla="*/ 1855800 w 1984320"/>
              <a:gd name="textAreaTop" fmla="*/ 128520 h 2776680"/>
              <a:gd name="textAreaBottom" fmla="*/ 2648160 h 2776680"/>
            </a:gdLst>
            <a:ahLst/>
            <a:rect l="textAreaLeft" t="textAreaTop" r="textAreaRight" b="textAreaBottom"/>
            <a:pathLst>
              <a:path w="21600" h="30224">
                <a:moveTo>
                  <a:pt x="0" y="0"/>
                </a:moveTo>
                <a:lnTo>
                  <a:pt x="21600" y="0"/>
                </a:lnTo>
                <a:lnTo>
                  <a:pt x="21600" y="30224"/>
                </a:lnTo>
                <a:lnTo>
                  <a:pt x="0" y="30224"/>
                </a:lnTo>
                <a:close/>
              </a:path>
              <a:path fill="lightenLess" w="21600" h="302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4">
                <a:moveTo>
                  <a:pt x="21600" y="0"/>
                </a:moveTo>
                <a:lnTo>
                  <a:pt x="21600" y="30224"/>
                </a:lnTo>
                <a:lnTo>
                  <a:pt x="20200" y="28824"/>
                </a:lnTo>
                <a:lnTo>
                  <a:pt x="20200" y="1400"/>
                </a:lnTo>
                <a:close/>
              </a:path>
              <a:path fill="darkenLess" w="21600" h="30224">
                <a:moveTo>
                  <a:pt x="21600" y="30224"/>
                </a:moveTo>
                <a:lnTo>
                  <a:pt x="0" y="30224"/>
                </a:lnTo>
                <a:lnTo>
                  <a:pt x="1400" y="28824"/>
                </a:lnTo>
                <a:lnTo>
                  <a:pt x="20200" y="28824"/>
                </a:lnTo>
                <a:close/>
              </a:path>
              <a:path fill="lighten" w="21600" h="30224">
                <a:moveTo>
                  <a:pt x="0" y="302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914400" y="2725560"/>
            <a:ext cx="1289160" cy="1832040"/>
          </a:xfrm>
          <a:custGeom>
            <a:avLst/>
            <a:gdLst>
              <a:gd name="textAreaLeft" fmla="*/ 83520 w 1289160"/>
              <a:gd name="textAreaRight" fmla="*/ 1205640 w 1289160"/>
              <a:gd name="textAreaTop" fmla="*/ 83520 h 1832040"/>
              <a:gd name="textAreaBottom" fmla="*/ 1748520 h 1832040"/>
            </a:gdLst>
            <a:ahLst/>
            <a:rect l="textAreaLeft" t="textAreaTop" r="textAreaRight" b="textAreaBottom"/>
            <a:pathLst>
              <a:path w="21600" h="30693">
                <a:moveTo>
                  <a:pt x="0" y="0"/>
                </a:moveTo>
                <a:lnTo>
                  <a:pt x="21600" y="0"/>
                </a:lnTo>
                <a:lnTo>
                  <a:pt x="21600" y="30693"/>
                </a:lnTo>
                <a:lnTo>
                  <a:pt x="0" y="30693"/>
                </a:lnTo>
                <a:close/>
              </a:path>
              <a:path fill="lightenLess" w="21600" h="30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93">
                <a:moveTo>
                  <a:pt x="21600" y="0"/>
                </a:moveTo>
                <a:lnTo>
                  <a:pt x="21600" y="30693"/>
                </a:lnTo>
                <a:lnTo>
                  <a:pt x="20200" y="29294"/>
                </a:lnTo>
                <a:lnTo>
                  <a:pt x="20200" y="1400"/>
                </a:lnTo>
                <a:close/>
              </a:path>
              <a:path fill="darkenLess" w="21600" h="30693">
                <a:moveTo>
                  <a:pt x="21600" y="30693"/>
                </a:moveTo>
                <a:lnTo>
                  <a:pt x="0" y="30693"/>
                </a:lnTo>
                <a:lnTo>
                  <a:pt x="1400" y="29294"/>
                </a:lnTo>
                <a:lnTo>
                  <a:pt x="20200" y="29294"/>
                </a:lnTo>
                <a:close/>
              </a:path>
              <a:path fill="lighten" w="21600" h="30693">
                <a:moveTo>
                  <a:pt x="0" y="30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5" action="ppaction://hlinksldjump"/>
          </p:cNvPr>
          <p:cNvSpPr/>
          <p:nvPr/>
        </p:nvSpPr>
        <p:spPr>
          <a:xfrm>
            <a:off x="6599160" y="5195880"/>
            <a:ext cx="1393920" cy="1417680"/>
          </a:xfrm>
          <a:custGeom>
            <a:avLst/>
            <a:gdLst>
              <a:gd name="textAreaLeft" fmla="*/ 90360 w 1393920"/>
              <a:gd name="textAreaRight" fmla="*/ 1303560 w 1393920"/>
              <a:gd name="textAreaTop" fmla="*/ 90360 h 1417680"/>
              <a:gd name="textAreaBottom" fmla="*/ 1327320 h 1417680"/>
            </a:gdLst>
            <a:ahLst/>
            <a:rect l="textAreaLeft" t="textAreaTop" r="textAreaRight" b="textAreaBottom"/>
            <a:pathLst>
              <a:path w="21600" h="21968">
                <a:moveTo>
                  <a:pt x="0" y="0"/>
                </a:moveTo>
                <a:lnTo>
                  <a:pt x="21600" y="0"/>
                </a:lnTo>
                <a:lnTo>
                  <a:pt x="21600" y="21968"/>
                </a:lnTo>
                <a:lnTo>
                  <a:pt x="0" y="21968"/>
                </a:lnTo>
                <a:close/>
              </a:path>
              <a:path fill="lightenLess" w="21600" h="219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8">
                <a:moveTo>
                  <a:pt x="21600" y="0"/>
                </a:moveTo>
                <a:lnTo>
                  <a:pt x="21600" y="21968"/>
                </a:lnTo>
                <a:lnTo>
                  <a:pt x="20200" y="20568"/>
                </a:lnTo>
                <a:lnTo>
                  <a:pt x="20200" y="1400"/>
                </a:lnTo>
                <a:close/>
              </a:path>
              <a:path fill="darkenLess" w="21600" h="21968">
                <a:moveTo>
                  <a:pt x="21600" y="21968"/>
                </a:moveTo>
                <a:lnTo>
                  <a:pt x="0" y="21968"/>
                </a:lnTo>
                <a:lnTo>
                  <a:pt x="1400" y="20568"/>
                </a:lnTo>
                <a:lnTo>
                  <a:pt x="20200" y="20568"/>
                </a:lnTo>
                <a:close/>
              </a:path>
              <a:path fill="lighten" w="21600" h="21968">
                <a:moveTo>
                  <a:pt x="0" y="219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6" action="ppaction://hlinksldjump"/>
          </p:cNvPr>
          <p:cNvSpPr/>
          <p:nvPr/>
        </p:nvSpPr>
        <p:spPr>
          <a:xfrm>
            <a:off x="2916360" y="4140360"/>
            <a:ext cx="987480" cy="2246040"/>
          </a:xfrm>
          <a:custGeom>
            <a:avLst/>
            <a:gdLst>
              <a:gd name="textAreaLeft" fmla="*/ 63720 w 987480"/>
              <a:gd name="textAreaRight" fmla="*/ 923760 w 987480"/>
              <a:gd name="textAreaTop" fmla="*/ 63720 h 2246040"/>
              <a:gd name="textAreaBottom" fmla="*/ 2182320 h 2246040"/>
            </a:gdLst>
            <a:ahLst/>
            <a:rect l="textAreaLeft" t="textAreaTop" r="textAreaRight" b="textAreaBottom"/>
            <a:pathLst>
              <a:path w="21600" h="49120">
                <a:moveTo>
                  <a:pt x="0" y="0"/>
                </a:moveTo>
                <a:lnTo>
                  <a:pt x="21600" y="0"/>
                </a:lnTo>
                <a:lnTo>
                  <a:pt x="21600" y="49120"/>
                </a:lnTo>
                <a:lnTo>
                  <a:pt x="0" y="49120"/>
                </a:lnTo>
                <a:close/>
              </a:path>
              <a:path fill="lightenLess" w="21600" h="491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120">
                <a:moveTo>
                  <a:pt x="21600" y="0"/>
                </a:moveTo>
                <a:lnTo>
                  <a:pt x="21600" y="49120"/>
                </a:lnTo>
                <a:lnTo>
                  <a:pt x="20200" y="47720"/>
                </a:lnTo>
                <a:lnTo>
                  <a:pt x="20200" y="1400"/>
                </a:lnTo>
                <a:close/>
              </a:path>
              <a:path fill="darkenLess" w="21600" h="49120">
                <a:moveTo>
                  <a:pt x="21600" y="49120"/>
                </a:moveTo>
                <a:lnTo>
                  <a:pt x="0" y="49120"/>
                </a:lnTo>
                <a:lnTo>
                  <a:pt x="1400" y="47720"/>
                </a:lnTo>
                <a:lnTo>
                  <a:pt x="20200" y="47720"/>
                </a:lnTo>
                <a:close/>
              </a:path>
              <a:path fill="lighten" w="21600" h="49120">
                <a:moveTo>
                  <a:pt x="0" y="4912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7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7" action="ppaction://hlinksldjump"/>
          </p:cNvPr>
          <p:cNvSpPr/>
          <p:nvPr/>
        </p:nvSpPr>
        <p:spPr>
          <a:xfrm>
            <a:off x="4465800" y="3660840"/>
            <a:ext cx="1218960" cy="592200"/>
          </a:xfrm>
          <a:custGeom>
            <a:avLst/>
            <a:gdLst>
              <a:gd name="textAreaLeft" fmla="*/ 38160 w 1218960"/>
              <a:gd name="textAreaRight" fmla="*/ 1180800 w 1218960"/>
              <a:gd name="textAreaTop" fmla="*/ 38160 h 592200"/>
              <a:gd name="textAreaBottom" fmla="*/ 554040 h 592200"/>
            </a:gdLst>
            <a:ahLst/>
            <a:rect l="textAreaLeft" t="textAreaTop" r="textAreaRight" b="textAreaBottom"/>
            <a:pathLst>
              <a:path w="44447" h="21600">
                <a:moveTo>
                  <a:pt x="0" y="0"/>
                </a:moveTo>
                <a:lnTo>
                  <a:pt x="44447" y="0"/>
                </a:lnTo>
                <a:lnTo>
                  <a:pt x="44447" y="21600"/>
                </a:lnTo>
                <a:lnTo>
                  <a:pt x="0" y="21600"/>
                </a:lnTo>
                <a:close/>
              </a:path>
              <a:path fill="lightenLess" w="44447" h="21600">
                <a:moveTo>
                  <a:pt x="0" y="0"/>
                </a:moveTo>
                <a:lnTo>
                  <a:pt x="44447" y="0"/>
                </a:lnTo>
                <a:lnTo>
                  <a:pt x="43047" y="1400"/>
                </a:lnTo>
                <a:lnTo>
                  <a:pt x="1400" y="1400"/>
                </a:lnTo>
                <a:close/>
              </a:path>
              <a:path fill="darken" w="44447" h="21600">
                <a:moveTo>
                  <a:pt x="44447" y="0"/>
                </a:moveTo>
                <a:lnTo>
                  <a:pt x="44447" y="21600"/>
                </a:lnTo>
                <a:lnTo>
                  <a:pt x="43047" y="20200"/>
                </a:lnTo>
                <a:lnTo>
                  <a:pt x="43047" y="1400"/>
                </a:lnTo>
                <a:close/>
              </a:path>
              <a:path fill="darkenLess" w="44447" h="21600">
                <a:moveTo>
                  <a:pt x="44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47" y="20200"/>
                </a:lnTo>
                <a:close/>
              </a:path>
              <a:path fill="lighten" w="44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3957480" y="2629080"/>
            <a:ext cx="928800" cy="709560"/>
          </a:xfrm>
          <a:custGeom>
            <a:avLst/>
            <a:gdLst>
              <a:gd name="textAreaLeft" fmla="*/ 45720 w 928800"/>
              <a:gd name="textAreaRight" fmla="*/ 883080 w 92880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8271" h="21600">
                <a:moveTo>
                  <a:pt x="0" y="0"/>
                </a:moveTo>
                <a:lnTo>
                  <a:pt x="28271" y="0"/>
                </a:lnTo>
                <a:lnTo>
                  <a:pt x="28271" y="21600"/>
                </a:lnTo>
                <a:lnTo>
                  <a:pt x="0" y="21600"/>
                </a:lnTo>
                <a:close/>
              </a:path>
              <a:path fill="lightenLess" w="28271" h="21600">
                <a:moveTo>
                  <a:pt x="0" y="0"/>
                </a:moveTo>
                <a:lnTo>
                  <a:pt x="28271" y="0"/>
                </a:lnTo>
                <a:lnTo>
                  <a:pt x="26871" y="1400"/>
                </a:lnTo>
                <a:lnTo>
                  <a:pt x="1400" y="1400"/>
                </a:lnTo>
                <a:close/>
              </a:path>
              <a:path fill="darken" w="28271" h="21600">
                <a:moveTo>
                  <a:pt x="28271" y="0"/>
                </a:moveTo>
                <a:lnTo>
                  <a:pt x="28271" y="21600"/>
                </a:lnTo>
                <a:lnTo>
                  <a:pt x="26871" y="20200"/>
                </a:lnTo>
                <a:lnTo>
                  <a:pt x="26871" y="1400"/>
                </a:lnTo>
                <a:close/>
              </a:path>
              <a:path fill="darkenLess" w="28271" h="21600">
                <a:moveTo>
                  <a:pt x="28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1" y="20200"/>
                </a:lnTo>
                <a:close/>
              </a:path>
              <a:path fill="lighten" w="28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9" action="ppaction://hlinksldjump"/>
          </p:cNvPr>
          <p:cNvSpPr/>
          <p:nvPr/>
        </p:nvSpPr>
        <p:spPr>
          <a:xfrm>
            <a:off x="3043080" y="3000240"/>
            <a:ext cx="406440" cy="41436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14360"/>
              <a:gd name="textAreaBottom" fmla="*/ 388080 h 414360"/>
            </a:gdLst>
            <a:ahLst/>
            <a:rect l="textAreaLeft" t="textAreaTop" r="textAreaRight" b="textAreaBottom"/>
            <a:pathLst>
              <a:path w="21600" h="22021">
                <a:moveTo>
                  <a:pt x="0" y="0"/>
                </a:moveTo>
                <a:lnTo>
                  <a:pt x="21600" y="0"/>
                </a:lnTo>
                <a:lnTo>
                  <a:pt x="21600" y="22021"/>
                </a:lnTo>
                <a:lnTo>
                  <a:pt x="0" y="22021"/>
                </a:lnTo>
                <a:close/>
              </a:path>
              <a:path fill="lightenLess" w="21600" h="22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21">
                <a:moveTo>
                  <a:pt x="21600" y="0"/>
                </a:moveTo>
                <a:lnTo>
                  <a:pt x="21600" y="22021"/>
                </a:lnTo>
                <a:lnTo>
                  <a:pt x="20200" y="20621"/>
                </a:lnTo>
                <a:lnTo>
                  <a:pt x="20200" y="1400"/>
                </a:lnTo>
                <a:close/>
              </a:path>
              <a:path fill="darkenLess" w="21600" h="22021">
                <a:moveTo>
                  <a:pt x="21600" y="22021"/>
                </a:moveTo>
                <a:lnTo>
                  <a:pt x="0" y="22021"/>
                </a:lnTo>
                <a:lnTo>
                  <a:pt x="1400" y="20621"/>
                </a:lnTo>
                <a:lnTo>
                  <a:pt x="20200" y="20621"/>
                </a:lnTo>
                <a:close/>
              </a:path>
              <a:path fill="lighten" w="21600" h="22021">
                <a:moveTo>
                  <a:pt x="0" y="22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2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0" action="ppaction://hlinksldjump"/>
          </p:cNvPr>
          <p:cNvSpPr/>
          <p:nvPr/>
        </p:nvSpPr>
        <p:spPr>
          <a:xfrm>
            <a:off x="4846680" y="4603680"/>
            <a:ext cx="522360" cy="94464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944640"/>
              <a:gd name="textAreaBottom" fmla="*/ 910800 h 944640"/>
            </a:gdLst>
            <a:ahLst/>
            <a:rect l="textAreaLeft" t="textAreaTop" r="textAreaRight" b="textAreaBottom"/>
            <a:pathLst>
              <a:path w="21600" h="39050">
                <a:moveTo>
                  <a:pt x="0" y="0"/>
                </a:moveTo>
                <a:lnTo>
                  <a:pt x="21600" y="0"/>
                </a:lnTo>
                <a:lnTo>
                  <a:pt x="21600" y="39050"/>
                </a:lnTo>
                <a:lnTo>
                  <a:pt x="0" y="39050"/>
                </a:lnTo>
                <a:close/>
              </a:path>
              <a:path fill="lightenLess" w="21600" h="39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050">
                <a:moveTo>
                  <a:pt x="21600" y="0"/>
                </a:moveTo>
                <a:lnTo>
                  <a:pt x="21600" y="39050"/>
                </a:lnTo>
                <a:lnTo>
                  <a:pt x="20200" y="37650"/>
                </a:lnTo>
                <a:lnTo>
                  <a:pt x="20200" y="1400"/>
                </a:lnTo>
                <a:close/>
              </a:path>
              <a:path fill="darkenLess" w="21600" h="39050">
                <a:moveTo>
                  <a:pt x="21600" y="39050"/>
                </a:moveTo>
                <a:lnTo>
                  <a:pt x="0" y="39050"/>
                </a:lnTo>
                <a:lnTo>
                  <a:pt x="1400" y="37650"/>
                </a:lnTo>
                <a:lnTo>
                  <a:pt x="20200" y="37650"/>
                </a:lnTo>
                <a:close/>
              </a:path>
              <a:path fill="lighten" w="21600" h="39050">
                <a:moveTo>
                  <a:pt x="0" y="39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376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1" action="ppaction://hlinksldjump"/>
          </p:cNvPr>
          <p:cNvSpPr/>
          <p:nvPr/>
        </p:nvSpPr>
        <p:spPr>
          <a:xfrm>
            <a:off x="3017880" y="1386000"/>
            <a:ext cx="1568520" cy="885600"/>
          </a:xfrm>
          <a:custGeom>
            <a:avLst/>
            <a:gdLst>
              <a:gd name="textAreaLeft" fmla="*/ 57240 w 1568520"/>
              <a:gd name="textAreaRight" fmla="*/ 1511280 w 1568520"/>
              <a:gd name="textAreaTop" fmla="*/ 57240 h 885600"/>
              <a:gd name="textAreaBottom" fmla="*/ 828360 h 885600"/>
            </a:gdLst>
            <a:ahLst/>
            <a:rect l="textAreaLeft" t="textAreaTop" r="textAreaRight" b="textAreaBottom"/>
            <a:pathLst>
              <a:path w="38250" h="21600">
                <a:moveTo>
                  <a:pt x="0" y="0"/>
                </a:moveTo>
                <a:lnTo>
                  <a:pt x="38250" y="0"/>
                </a:lnTo>
                <a:lnTo>
                  <a:pt x="38250" y="21600"/>
                </a:lnTo>
                <a:lnTo>
                  <a:pt x="0" y="21600"/>
                </a:lnTo>
                <a:close/>
              </a:path>
              <a:path fill="lightenLess" w="38250" h="21600">
                <a:moveTo>
                  <a:pt x="0" y="0"/>
                </a:moveTo>
                <a:lnTo>
                  <a:pt x="38250" y="0"/>
                </a:lnTo>
                <a:lnTo>
                  <a:pt x="36850" y="1400"/>
                </a:lnTo>
                <a:lnTo>
                  <a:pt x="1400" y="1400"/>
                </a:lnTo>
                <a:close/>
              </a:path>
              <a:path fill="darken" w="38250" h="21600">
                <a:moveTo>
                  <a:pt x="38250" y="0"/>
                </a:moveTo>
                <a:lnTo>
                  <a:pt x="38250" y="21600"/>
                </a:lnTo>
                <a:lnTo>
                  <a:pt x="36850" y="20200"/>
                </a:lnTo>
                <a:lnTo>
                  <a:pt x="36850" y="1400"/>
                </a:lnTo>
                <a:close/>
              </a:path>
              <a:path fill="darkenLess" w="38250" h="21600">
                <a:moveTo>
                  <a:pt x="38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50" y="20200"/>
                </a:lnTo>
                <a:close/>
              </a:path>
              <a:path fill="lighten" w="38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35120" y="2449440"/>
            <a:ext cx="987480" cy="355680"/>
          </a:xfrm>
          <a:custGeom>
            <a:avLst/>
            <a:gdLst>
              <a:gd name="textAreaLeft" fmla="*/ 23040 w 987480"/>
              <a:gd name="textAreaRight" fmla="*/ 964440 w 98748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59930" h="21600">
                <a:moveTo>
                  <a:pt x="0" y="0"/>
                </a:moveTo>
                <a:lnTo>
                  <a:pt x="59930" y="0"/>
                </a:lnTo>
                <a:lnTo>
                  <a:pt x="59930" y="21600"/>
                </a:lnTo>
                <a:lnTo>
                  <a:pt x="0" y="21600"/>
                </a:lnTo>
                <a:close/>
              </a:path>
              <a:path fill="lightenLess" w="59930" h="21600">
                <a:moveTo>
                  <a:pt x="0" y="0"/>
                </a:moveTo>
                <a:lnTo>
                  <a:pt x="59930" y="0"/>
                </a:lnTo>
                <a:lnTo>
                  <a:pt x="58530" y="1400"/>
                </a:lnTo>
                <a:lnTo>
                  <a:pt x="1400" y="1400"/>
                </a:lnTo>
                <a:close/>
              </a:path>
              <a:path fill="darken" w="59930" h="21600">
                <a:moveTo>
                  <a:pt x="59930" y="0"/>
                </a:moveTo>
                <a:lnTo>
                  <a:pt x="59930" y="21600"/>
                </a:lnTo>
                <a:lnTo>
                  <a:pt x="58530" y="20200"/>
                </a:lnTo>
                <a:lnTo>
                  <a:pt x="58530" y="1400"/>
                </a:lnTo>
                <a:close/>
              </a:path>
              <a:path fill="darkenLess" w="59930" h="21600">
                <a:moveTo>
                  <a:pt x="59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30" y="20200"/>
                </a:lnTo>
                <a:close/>
              </a:path>
              <a:path fill="lighten" w="59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5000" y="3619440"/>
            <a:ext cx="231840" cy="709560"/>
          </a:xfrm>
          <a:custGeom>
            <a:avLst/>
            <a:gdLst>
              <a:gd name="textAreaLeft" fmla="*/ 14760 w 231840"/>
              <a:gd name="textAreaRight" fmla="*/ 217080 w 231840"/>
              <a:gd name="textAreaTop" fmla="*/ 14760 h 709560"/>
              <a:gd name="textAreaBottom" fmla="*/ 694800 h 709560"/>
            </a:gdLst>
            <a:ahLst/>
            <a:rect l="textAreaLeft" t="textAreaTop" r="textAreaRight" b="textAreaBottom"/>
            <a:pathLst>
              <a:path w="21600" h="66039">
                <a:moveTo>
                  <a:pt x="0" y="0"/>
                </a:moveTo>
                <a:lnTo>
                  <a:pt x="21600" y="0"/>
                </a:lnTo>
                <a:lnTo>
                  <a:pt x="21600" y="66039"/>
                </a:lnTo>
                <a:lnTo>
                  <a:pt x="0" y="66039"/>
                </a:lnTo>
                <a:close/>
              </a:path>
              <a:path fill="lightenLess" w="21600" h="66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6039">
                <a:moveTo>
                  <a:pt x="21600" y="0"/>
                </a:moveTo>
                <a:lnTo>
                  <a:pt x="21600" y="66039"/>
                </a:lnTo>
                <a:lnTo>
                  <a:pt x="20200" y="64639"/>
                </a:lnTo>
                <a:lnTo>
                  <a:pt x="20200" y="1400"/>
                </a:lnTo>
                <a:close/>
              </a:path>
              <a:path fill="darkenLess" w="21600" h="66039">
                <a:moveTo>
                  <a:pt x="21600" y="66039"/>
                </a:moveTo>
                <a:lnTo>
                  <a:pt x="0" y="66039"/>
                </a:lnTo>
                <a:lnTo>
                  <a:pt x="1400" y="64639"/>
                </a:lnTo>
                <a:lnTo>
                  <a:pt x="20200" y="64639"/>
                </a:lnTo>
                <a:close/>
              </a:path>
              <a:path fill="lighten" w="21600" h="66039">
                <a:moveTo>
                  <a:pt x="0" y="66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646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3800" y="5213520"/>
            <a:ext cx="406440" cy="94428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944280"/>
              <a:gd name="textAreaBottom" fmla="*/ 918000 h 944280"/>
            </a:gdLst>
            <a:ahLst/>
            <a:rect l="textAreaLeft" t="textAreaTop" r="textAreaRight" b="textAreaBottom"/>
            <a:pathLst>
              <a:path w="21600" h="50158">
                <a:moveTo>
                  <a:pt x="0" y="0"/>
                </a:moveTo>
                <a:lnTo>
                  <a:pt x="21600" y="0"/>
                </a:lnTo>
                <a:lnTo>
                  <a:pt x="21600" y="50158"/>
                </a:lnTo>
                <a:lnTo>
                  <a:pt x="0" y="50158"/>
                </a:lnTo>
                <a:close/>
              </a:path>
              <a:path fill="lightenLess" w="21600" h="5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158">
                <a:moveTo>
                  <a:pt x="21600" y="0"/>
                </a:moveTo>
                <a:lnTo>
                  <a:pt x="21600" y="50158"/>
                </a:lnTo>
                <a:lnTo>
                  <a:pt x="20200" y="48758"/>
                </a:lnTo>
                <a:lnTo>
                  <a:pt x="20200" y="1400"/>
                </a:lnTo>
                <a:close/>
              </a:path>
              <a:path fill="darkenLess" w="21600" h="50158">
                <a:moveTo>
                  <a:pt x="21600" y="50158"/>
                </a:moveTo>
                <a:lnTo>
                  <a:pt x="0" y="50158"/>
                </a:lnTo>
                <a:lnTo>
                  <a:pt x="1400" y="48758"/>
                </a:lnTo>
                <a:lnTo>
                  <a:pt x="20200" y="48758"/>
                </a:lnTo>
                <a:close/>
              </a:path>
              <a:path fill="lighten" w="21600" h="50158">
                <a:moveTo>
                  <a:pt x="0" y="5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487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4400" y="498600"/>
            <a:ext cx="522000" cy="177300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1773000"/>
              <a:gd name="textAreaBottom" fmla="*/ 1739160 h 1773000"/>
            </a:gdLst>
            <a:ahLst/>
            <a:rect l="textAreaLeft" t="textAreaTop" r="textAreaRight" b="textAreaBottom"/>
            <a:pathLst>
              <a:path w="21600" h="73330">
                <a:moveTo>
                  <a:pt x="0" y="0"/>
                </a:moveTo>
                <a:lnTo>
                  <a:pt x="21600" y="0"/>
                </a:lnTo>
                <a:lnTo>
                  <a:pt x="21600" y="73330"/>
                </a:lnTo>
                <a:lnTo>
                  <a:pt x="0" y="73330"/>
                </a:lnTo>
                <a:close/>
              </a:path>
              <a:path fill="lightenLess" w="21600" h="733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3330">
                <a:moveTo>
                  <a:pt x="21600" y="0"/>
                </a:moveTo>
                <a:lnTo>
                  <a:pt x="21600" y="73330"/>
                </a:lnTo>
                <a:lnTo>
                  <a:pt x="20200" y="71930"/>
                </a:lnTo>
                <a:lnTo>
                  <a:pt x="20200" y="1400"/>
                </a:lnTo>
                <a:close/>
              </a:path>
              <a:path fill="darkenLess" w="21600" h="73330">
                <a:moveTo>
                  <a:pt x="21600" y="73330"/>
                </a:moveTo>
                <a:lnTo>
                  <a:pt x="0" y="73330"/>
                </a:lnTo>
                <a:lnTo>
                  <a:pt x="1400" y="71930"/>
                </a:lnTo>
                <a:lnTo>
                  <a:pt x="20200" y="71930"/>
                </a:lnTo>
                <a:close/>
              </a:path>
              <a:path fill="lighten" w="21600" h="73330">
                <a:moveTo>
                  <a:pt x="0" y="73330"/>
                </a:moveTo>
                <a:lnTo>
                  <a:pt x="0" y="0"/>
                </a:lnTo>
                <a:lnTo>
                  <a:pt x="1400" y="1400"/>
                </a:lnTo>
                <a:lnTo>
                  <a:pt x="1400" y="7193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2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9144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cartoon illustrate the idea of Nationalis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German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the people of all German speak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ustri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Belgiu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Ice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German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Liechtenste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2819520"/>
            <a:ext cx="266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Luxembou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Netherland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Norwa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Swed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Switzerlan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United Kingd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4"/>
          <a:stretch/>
        </p:blipFill>
        <p:spPr>
          <a:xfrm>
            <a:off x="2286000" y="297180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5"/>
          <a:stretch/>
        </p:blipFill>
        <p:spPr>
          <a:xfrm>
            <a:off x="2286000" y="472428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2286000" y="5105520"/>
            <a:ext cx="50328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5791320" y="4724280"/>
            <a:ext cx="301680" cy="30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8"/>
          <a:stretch/>
        </p:blipFill>
        <p:spPr>
          <a:xfrm>
            <a:off x="2362320" y="335268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5638680" y="2971800"/>
            <a:ext cx="476280" cy="285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0"/>
          <a:stretch/>
        </p:blipFill>
        <p:spPr>
          <a:xfrm>
            <a:off x="5638680" y="3352680"/>
            <a:ext cx="45720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2362320" y="3809880"/>
            <a:ext cx="371520" cy="285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2"/>
          <a:stretch/>
        </p:blipFill>
        <p:spPr>
          <a:xfrm>
            <a:off x="2362320" y="4267080"/>
            <a:ext cx="380880" cy="276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3"/>
          <a:stretch/>
        </p:blipFill>
        <p:spPr>
          <a:xfrm>
            <a:off x="5715000" y="3886200"/>
            <a:ext cx="380880" cy="27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4"/>
          <a:stretch/>
        </p:blipFill>
        <p:spPr>
          <a:xfrm>
            <a:off x="5638680" y="4267080"/>
            <a:ext cx="466920" cy="29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5"/>
          <a:stretch/>
        </p:blipFill>
        <p:spPr>
          <a:xfrm>
            <a:off x="5562720" y="5105520"/>
            <a:ext cx="571320" cy="285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21680" y="57150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German speaking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rmanic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rcRect l="1056" t="6434" r="2111" b="39172"/>
          <a:stretch/>
        </p:blipFill>
        <p:spPr>
          <a:xfrm>
            <a:off x="268200" y="-1440"/>
            <a:ext cx="8875800" cy="685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2506" t="77294" r="86242" b="21123"/>
          <a:stretch/>
        </p:blipFill>
        <p:spPr>
          <a:xfrm>
            <a:off x="5487840" y="6148440"/>
            <a:ext cx="365616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Pooh"/>
              </a:rPr>
              <a:t>N</a:t>
            </a:r>
            <a:r>
              <a:rPr b="0" lang="en-US" sz="3600" spc="-1" strike="noStrike">
                <a:solidFill>
                  <a:srgbClr val="333399"/>
                </a:solidFill>
                <a:latin typeface="Pooh"/>
              </a:rPr>
              <a:t>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9907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n-Slavi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 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to unify all of the Slavic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106720"/>
            <a:ext cx="6399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84169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3880" y="0"/>
            <a:ext cx="7620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ooh"/>
              </a:rPr>
              <a:t>Causes of WWI</a:t>
            </a:r>
            <a:r>
              <a:rPr b="1" lang="en-US" sz="4400" spc="-1" strike="noStrike">
                <a:solidFill>
                  <a:srgbClr val="003366"/>
                </a:solidFill>
                <a:latin typeface="Pooh"/>
              </a:rPr>
              <a:t> -</a:t>
            </a:r>
            <a:r>
              <a:rPr b="1" lang="en-US" sz="4400" spc="-1" strike="noStrike">
                <a:solidFill>
                  <a:srgbClr val="009900"/>
                </a:solidFill>
                <a:latin typeface="Pooh"/>
              </a:rPr>
              <a:t> </a:t>
            </a:r>
            <a:r>
              <a:rPr b="1" lang="en-US" sz="4800" spc="-1" strike="noStrike">
                <a:solidFill>
                  <a:srgbClr val="cc0066"/>
                </a:solidFill>
                <a:latin typeface="Pooh"/>
              </a:rPr>
              <a:t>I</a:t>
            </a:r>
            <a:r>
              <a:rPr b="0" lang="en-US" sz="3600" spc="-1" strike="noStrike">
                <a:solidFill>
                  <a:srgbClr val="cc0066"/>
                </a:solidFill>
                <a:latin typeface="Pooh"/>
              </a:rPr>
              <a:t>mperi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85800"/>
            <a:ext cx="2911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he increase of the spread of power dur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of Imperialism many European nations be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colonies (and other forms of Imperialism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to illustrate their strengt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05320" y="838080"/>
            <a:ext cx="56386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2:31:23Z</dcterms:created>
  <dc:creator>Adam Berlin</dc:creator>
  <dc:description/>
  <dc:language>en-US</dc:language>
  <cp:lastModifiedBy>NYCDOE</cp:lastModifiedBy>
  <dcterms:modified xsi:type="dcterms:W3CDTF">2012-01-05T13:54:14Z</dcterms:modified>
  <cp:revision>52</cp:revision>
  <dc:subject/>
  <dc:title>Slide 1</dc:title>
</cp:coreProperties>
</file>